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6BE-7490-45C0-9CCE-C1F47790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D84-E793-410F-843C-8DF8E1D7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B4A-CA1B-47CD-8493-8426EDFE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B9E-4386-44D2-B77A-73441467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16F-3A8E-43CD-AA71-97B40090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0BA-F95E-4196-9312-793413A5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5C6-368B-47BB-B8DA-1F1F46D5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C61-5213-4A58-913E-D58DD315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E75-5EEF-4CDF-B233-5028D405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7AC-62DC-48AA-BA8A-AAB1604D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F28-FFB5-4EA9-816B-9BFB9B9C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E5A-3416-4371-95DA-9A74495D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0225-8814-4BFE-B5C8-B9B0215E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freeplaymusic.com/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hristianse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86200" y="457200"/>
            <a:ext cx="1981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eg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40384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029200"/>
            <a:ext cx="20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la Bentive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15,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Christiansen"/>
          <p:cNvPicPr/>
          <p:nvPr/>
        </p:nvPicPr>
        <p:blipFill>
          <a:blip r:embed="rId3"/>
          <a:stretch/>
        </p:blipFill>
        <p:spPr>
          <a:xfrm>
            <a:off x="6553080" y="228600"/>
            <a:ext cx="167652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hristiansen"/>
          <p:cNvPicPr/>
          <p:nvPr/>
        </p:nvPicPr>
        <p:blipFill>
          <a:blip r:embed="rId4"/>
          <a:stretch/>
        </p:blipFill>
        <p:spPr>
          <a:xfrm>
            <a:off x="380880" y="3429000"/>
            <a:ext cx="594360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6019920"/>
            <a:ext cx="5181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17880" y="2170080"/>
            <a:ext cx="42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my chi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/23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315200" y="41148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Christiansen"/>
          <p:cNvPicPr/>
          <p:nvPr/>
        </p:nvPicPr>
        <p:blipFill>
          <a:blip r:embed="rId1"/>
          <a:stretch/>
        </p:blipFill>
        <p:spPr>
          <a:xfrm>
            <a:off x="0" y="0"/>
            <a:ext cx="678168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Christiansen"/>
          <p:cNvPicPr/>
          <p:nvPr/>
        </p:nvPicPr>
        <p:blipFill>
          <a:blip r:embed="rId2"/>
          <a:stretch/>
        </p:blipFill>
        <p:spPr>
          <a:xfrm>
            <a:off x="7162920" y="380880"/>
            <a:ext cx="1676160" cy="243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38098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September 19,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hristian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e Kirk Christiansen invented the L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L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50,christiansen was named junior vice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53 the legos were on the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Ole’s grandson took over the po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sold Lego's in 130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for legos totaled more than 1.5 billion do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Ole Kirk Christian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e Kirk Christiansen was born in  18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32 he set up his own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4 Christiansen’s factory burne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sen rebuilt it in 19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49 more than 200 different blocks wood and plastic were bui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4:00:33Z</dcterms:created>
  <dc:creator>install</dc:creator>
  <dc:description/>
  <dc:language>en-US</dc:language>
  <cp:lastModifiedBy>install</cp:lastModifiedBy>
  <dcterms:modified xsi:type="dcterms:W3CDTF">2011-09-26T13:56:44Z</dcterms:modified>
  <cp:revision>9</cp:revision>
  <dc:subject/>
  <dc:title>Slide 1</dc:title>
</cp:coreProperties>
</file>